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2.png" ContentType="image/png"/>
  <Override PartName="/ppt/media/image33.png" ContentType="image/png"/>
  <Override PartName="/ppt/media/image39.wmf" ContentType="image/x-wmf"/>
  <Override PartName="/ppt/media/image41.wmf" ContentType="image/x-wmf"/>
  <Override PartName="/ppt/media/image31.jpeg" ContentType="image/jpeg"/>
  <Override PartName="/ppt/media/image45.wmf" ContentType="image/x-wmf"/>
  <Override PartName="/ppt/media/image40.wmf" ContentType="image/x-wmf"/>
  <Override PartName="/ppt/media/image32.png" ContentType="image/png"/>
  <Override PartName="/ppt/media/image44.png" ContentType="image/png"/>
  <Override PartName="/ppt/media/image34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0.wmf" ContentType="image/x-wmf"/>
  <Override PartName="/ppt/media/image46.wmf" ContentType="image/x-wmf"/>
  <Override PartName="/ppt/media/image7.wmf" ContentType="image/x-wmf"/>
  <Override PartName="/ppt/media/image37.wmf" ContentType="image/x-wmf"/>
  <Override PartName="/ppt/media/image30.jpeg" ContentType="image/jpeg"/>
  <Override PartName="/ppt/media/image9.jpeg" ContentType="image/jpeg"/>
  <Override PartName="/ppt/media/image13.png" ContentType="image/png"/>
  <Override PartName="/ppt/media/image4.jpeg" ContentType="image/jpeg"/>
  <Override PartName="/ppt/media/image38.wmf" ContentType="image/x-wmf"/>
  <Override PartName="/ppt/media/image8.wmf" ContentType="image/x-wmf"/>
  <Override PartName="/ppt/media/image36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75E9-0651-432E-B4D3-F515D5CEC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04F5-62BB-4B2D-8E6F-0279F95E8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E4990B-16F3-489B-9980-CA634BBC8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4D959F-D1D5-48E0-8784-3C7C84782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232A-6840-4DFC-A87E-8FB3EE327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C709-ADE1-49F1-8AB0-5BAD442A0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F0A7-95E9-4945-81DB-69B09EF36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3400-4101-4995-BCED-ACAC4555B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B575-A476-4DB3-907D-6AEEE4A55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7EAD-E2FB-497F-9438-654F099F9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0704-BD5A-4961-88EC-2C55F12AA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504E-B4A2-48FA-B326-14586FDAA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2CF1-D284-4BFC-A3FE-8C64B640F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0D67-618B-47E8-A033-F70D6D8F5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DE42-BF94-450D-95FC-4E37E233C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9361-CF0C-4D48-948A-F35F7F305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EDF9-1F80-486A-8FFD-49AF39B58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5778-D516-4DA1-B9F3-8A05A7BAC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80BD-891F-4689-B22F-0929B49FF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1AF1-2428-4A8A-846D-D878E3536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87B9-3EDA-46EC-B1AD-B0EFA13EE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95AF-10E7-405B-A223-2B46FE4B6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476A-D7A2-416D-956D-E2F92A95D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98E2-FCED-4FBD-A540-ADF6ADA2F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D8E7-5B5E-4E74-89B4-D66065423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F13E-E7B9-48BF-BF4B-38CFD68B7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E1BB-085C-45C6-BC43-2BD09BDC1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D5D0-0621-46BB-A274-A562B4F56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BAC2-DD27-41E4-84B1-04BDED47D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317E-8130-4949-AFA4-0824D6E4D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3814-1BFC-439D-885F-749A63C2E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7A44-C905-41E0-A87C-FDCD303B7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6C59-48AC-43E4-B6EB-8DB001A87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EADA5-2179-44C0-809E-8D3DE87203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0FA36-18F4-4013-A83B-42904FD5F14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5AC659-BA2A-4F06-83A5-0D8DBCD501F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A93438-8F35-4ED9-8165-FF6512900E6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5BB77D-5ECF-498C-987D-7A0D44790C4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2F010C-12EA-434B-B903-86897554915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249102-00F8-434A-BD52-2AA49DB1F57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30B90C-19B6-4BD5-AFFE-2316FFECED4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6843F0-1BD1-4079-8DDE-4F2984EF4D7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FA54FA-C23D-425A-9458-BC94C97AED6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E241A1-60CC-47EB-B254-070FB31E745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E83D4-35C3-48E7-A436-564B219C5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33B6B-0F29-465A-9528-6B32668226C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D6709-487E-4936-A2FD-B930E7A961B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A0D2C-69FA-4A0E-B2E4-1F57365A40D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93722-CD28-4DE7-84E3-6CA3D21FC37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0035A-A522-4F48-A5BA-1C879B708FE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CF5CB-2852-4AEA-83DC-B898F09B1D0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E2615-2107-4A8D-92F7-7EC48400A96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984C8-3889-4A35-91DE-6C6AD265FDD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D6351-AF72-4398-A699-44B51134217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DCF02-0A87-4EEE-835D-74FDC47A995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06D89-5DD0-47E9-B01C-C684A22FBA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947AD-96F6-444E-BCE8-A6EE3A5283B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62299-56E9-4E45-A6B6-4FBDA4B72E4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55C5F2-9E3C-4A24-81AD-416751DB33E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725AC5-53AE-4977-947E-9EB42243824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D21E4C-64F0-469C-8B96-16523A18DFF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8CA76C-3DA6-4FC9-BD74-741BA171963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10B883-18C2-47BB-98BE-AB89BE23C43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B18A40-F3E8-4A86-95A5-A1F6E0BD81B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087657-D057-4B49-8FCA-33392E5652E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8AA19C-035D-4C7D-BF57-4AEB0BC7987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D48D6C-5254-4F0F-9D8C-64D040F83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A81A1C-55C2-4183-9138-E075F485216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D889F4-7AB4-488F-BF71-789351D6286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9F9B8A-D86B-44AB-ADF3-9F14431E665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DDE508-8E3C-4752-82C5-468426EECF1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0ABFB3-6A38-4AA7-9A05-6CC858A0D51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B3F87E-DFA2-4D5C-8A6E-D8379A063D5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AFD89F-8A3E-46AA-AD9B-5F41B33CC91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4BE057-BAEA-4164-85B7-1E437396F8E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3F1F46-FEE4-4330-A274-23547CF47D7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B008F3-C585-4597-8B6C-D3E3403157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3B2A91-B4AB-4B98-95E0-CFC712E5888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C0FF3E-A123-475E-9DBF-E37E98DC312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79176D-67FF-40D7-873E-1DBB400B970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8B873E-35EA-4B72-903C-F026F69C0AE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0D7CAE-D8AF-4307-A5B0-65CCA30DC37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46AD9-6939-4F00-B4B5-3B3DC1D9914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5B13F-46C3-4CBB-AA34-7D9155F92EF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2519C-9385-4F18-9538-DB01C249C87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25BBC-E968-4828-B6E0-C6FA767F173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61264-31EC-4240-8CC3-12E734EC70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C824D-E8DE-415C-B55E-87503CC6EC1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FDFCA-C377-4061-8A87-DEFADED2957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9C49A-D144-4DCD-B626-3E158404F6A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764D6-F85E-47FD-86DA-D58DC61CAD1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BA556-A593-4459-B391-EFDA8AA491F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24D6E-EA29-4D78-BBD6-4EBD4F0B71B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FDBCD-BC78-47F8-95A1-29D15DE6C7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9EA3E-0A7A-4AFD-ADB0-7E2A939437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7AAFA-DA03-4C37-B2A9-15E64FF517D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70000-82D7-4E2A-A6D9-E890E1B7CE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3C0D5-64C8-4A03-90B5-5AA84E1841E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55772-E8BF-42C5-8EE1-5AE0CF8A803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978BB-D41B-4A7F-B527-81CA961DBC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B3BF2-6991-498A-B7CF-778CDDC69B3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042E7-1607-410D-B664-B9D5805788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88D7A-2F41-4FA6-8ECF-6AE2452461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1E367-E5A4-4D61-9FD4-44B906440E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B4EAC-23F2-49D1-AA2B-9EFDD9C04A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FF05F-780F-475F-87B3-C028B93C74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BF8B1-823E-4FAD-8C84-240A8537BB9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370E1-DA56-47C0-BED0-86969E9322C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8E88-8967-4567-B43D-41A8ED885BC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0DF4-73B6-4E21-824E-C1375349179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39D2-A7E9-41CE-8EEC-466395D99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15BAE-4AA7-4DFE-93FF-655CD113738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0692-3CE2-498C-9977-B5A277008C8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4984-95C9-4D61-95F6-698A6F1A4F2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010C-1C74-47EA-9A73-2811309718D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AEFC-57C7-4733-9295-90F27D17E65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B2A6-53DE-4905-A01D-3DA35721939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9AB1-934A-4821-9238-006CD840522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C452-A70D-4745-98D7-2F787E83C3F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523B-CDB0-4C63-A984-7C4877986D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913B-9158-4435-BC4E-3C9E466F687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83EBFC-5A15-4130-8D98-4E648EE52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12ED8-83B3-4CB9-8F0F-C51C2008196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086FE5-838D-4B59-9681-1D3CD092028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B7A38-CF4D-4092-A2E7-E5E5EB4C8A5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CA69CB-138D-4EAB-9E19-53CE895D00F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0A39CC-AAF7-4FBC-8696-1C494EE976D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F5D5C6-2F3B-4110-8586-8D2DC538516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159025-9CF1-4105-A40A-5C8085665D7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60FF47-2B67-49E3-83FD-5DC77C94228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5D772B-F134-48EE-B3E2-67E74C71217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7909CB-9AA1-45C3-80E3-6E1E978AD03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7AF57-5103-4D7A-9C42-03BF42DFE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0046D-9A6F-40B0-83F8-71C25D823F4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73FB6-7A43-4469-A624-B23610ACFA3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78EC87-0191-4A78-B8A7-DDC6CDCA902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23D99C-9B18-4788-AFFE-ECC2B696D0B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095398-8929-4E92-AB26-D8A9B879186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BCF8FF-7C0D-4F47-93AE-D2E5C62B78F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6F86C6-4CDF-4274-A073-132C27B8601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0258CC-D5FD-4C7F-AD93-D4FE0CB0DD0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088384-1FE5-47AF-9EAE-8325D7A86AA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0B5BDA-5CA4-4F02-9C7C-D45B133F2B5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1C204F-E0B4-45F1-B85A-B9FC2A3E7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16B78-254F-4DBB-B044-96B725AB68C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098A87-56B8-4620-ABEB-0EE7D34CC9F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8B3B6C-CDC5-447E-909F-1BE5F679025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9D2023-9D8F-44A7-BF0A-CE2C2BA5ED7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2BBE0-F727-484C-A1AF-671D92E134F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9084A-BCCA-4FF5-BDF1-C6A686E8013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7FC07-11AB-459C-A5AB-2D98EDC9B7D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FCF33-3BB2-4CD7-80C2-6F9C58B21F8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2DC59-0DD2-4CF6-BCD4-5C38A8AF47A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54A65-481B-4E95-ACFD-DE06D5DDEE7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82E92-1E79-48AC-ACA1-D845277CF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4E8F2-2787-4BAF-B11D-3C6A99092CD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B1334-FB26-42AD-914B-7FD201469E8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D0443-5D3B-4846-960C-8F1C90A2905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65658-676D-41AC-B9B7-39090172D34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54400-1C2C-4689-80F7-872A5BCFEC5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B65FE-6D7F-4611-826B-CF476337946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350BE1-2954-4304-8EA8-BAAF76C718E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84862F-AB83-4DDC-8E28-7A9BECDB760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FA1841-01BE-4208-8F36-17D61050E63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1D2257-D5F1-480A-9C16-2D730B5EBF6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FFA780-F55A-460C-A4CA-15C58918A5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AD41A-7973-4DB0-B0D2-79F25B993C2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D3B6C0-AEA9-4564-A3A9-FEBC427529B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7D7BD6-1696-4479-9B2E-F156B36B644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3B611D-8137-48C8-9A10-462A10E69E5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0A6B7D-96A2-4B42-9E5B-673A66E8D24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5F09E4-2002-4759-8D3D-E97DB50BA52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EB250D-E6FD-499F-8C13-77554B67564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DDD1AD-7A6A-4BA7-A650-8AB4B2AC007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62DDDA-3BBA-4694-B86F-4CE54BA5B0A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4D5A81-35FE-4081-84BE-231A10FEB05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E41194-BFDB-4C07-92BF-472B997FC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86B2-C73A-4B07-A421-71FB626FBE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22DD-A72E-40EF-82E8-634407849C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1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EAF2-6935-4BB5-88B2-4388ECF749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2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FEA5-E788-4F1F-AC81-6DF19EE100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2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2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8246-47C7-4D07-8B60-BDF90DF876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D29E-94D1-4563-86E8-5B00C03E9A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1D62-4A6E-436A-B531-95FD8A4CB7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33DE-65D0-4D04-9C7A-C4A3463E24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A2DE-192D-4EA0-8834-3F5E2FD901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FB5E-2DD6-4A7A-8C5D-988A256CC5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1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1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5F9B-5955-4670-9247-AF5A045F50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1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A896-588D-4B9E-815A-AE3839F889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image" Target="../media/image12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9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66688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ценка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Аудиты</a:t>
            </a:r>
            <a:endParaRPr b="0" lang="en-US" sz="48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160" y="1347840"/>
            <a:ext cx="8305560" cy="28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нформацию 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онных процедур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х, оборудован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а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х рабо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и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йствиях по проверке контрол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дении записей и предоставлении отчет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648320" y="4267080"/>
            <a:ext cx="3525840" cy="22305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MCj04349290000[1]"/>
          <p:cNvPicPr/>
          <p:nvPr/>
        </p:nvPicPr>
        <p:blipFill>
          <a:blip r:embed="rId2"/>
          <a:stretch/>
        </p:blipFill>
        <p:spPr>
          <a:xfrm>
            <a:off x="1676520" y="4162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6E6F-1A98-4043-B291-8EAE6E5910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78487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ите результаты с документами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нарушения в системе или отклонения от процеду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примите действия по результатам ауд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DBFA-0484-4CE8-AD40-71B03DD190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"/>
          <p:cNvSpPr/>
          <p:nvPr/>
        </p:nvSpPr>
        <p:spPr>
          <a:xfrm>
            <a:off x="4572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2952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7"/>
          <p:cNvSpPr/>
          <p:nvPr/>
        </p:nvSpPr>
        <p:spPr>
          <a:xfrm>
            <a:off x="5335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ие аудитор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3" name="Picture 8" descr="lab_design"/>
          <p:cNvPicPr/>
          <p:nvPr/>
        </p:nvPicPr>
        <p:blipFill>
          <a:blip r:embed="rId2"/>
          <a:stretch/>
        </p:blipFill>
        <p:spPr>
          <a:xfrm>
            <a:off x="3200400" y="2133720"/>
            <a:ext cx="2593800" cy="312408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9"/>
          <p:cNvSpPr/>
          <p:nvPr/>
        </p:nvSpPr>
        <p:spPr>
          <a:xfrm>
            <a:off x="3200400" y="327672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8EB0-4F6D-4A1A-957C-1A7A20AFF2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Footer Placeholder 10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Oval 3"/>
          <p:cNvSpPr/>
          <p:nvPr/>
        </p:nvSpPr>
        <p:spPr>
          <a:xfrm>
            <a:off x="228600" y="1371600"/>
            <a:ext cx="3581280" cy="15238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Oval 5"/>
          <p:cNvSpPr/>
          <p:nvPr/>
        </p:nvSpPr>
        <p:spPr>
          <a:xfrm>
            <a:off x="5486400" y="4495680"/>
            <a:ext cx="3505320" cy="15368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5181480" y="1523880"/>
            <a:ext cx="3505320" cy="1295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Oval 6"/>
          <p:cNvSpPr/>
          <p:nvPr/>
        </p:nvSpPr>
        <p:spPr>
          <a:xfrm>
            <a:off x="380880" y="4495680"/>
            <a:ext cx="28958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ирующ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304920" y="1523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рганы 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TextBox 2"/>
          <p:cNvSpPr/>
          <p:nvPr/>
        </p:nvSpPr>
        <p:spPr>
          <a:xfrm>
            <a:off x="5105520" y="163656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ы по аккреди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TextBox 3"/>
          <p:cNvSpPr/>
          <p:nvPr/>
        </p:nvSpPr>
        <p:spPr>
          <a:xfrm>
            <a:off x="5578560" y="464832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ы  охраны здоров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ile"/>
          <p:cNvSpPr/>
          <p:nvPr/>
        </p:nvSpPr>
        <p:spPr>
          <a:xfrm>
            <a:off x="4724280" y="1598760"/>
            <a:ext cx="3733920" cy="1523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порядочи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5" name="Group 3"/>
          <p:cNvGrpSpPr/>
          <p:nvPr/>
        </p:nvGrpSpPr>
        <p:grpSpPr>
          <a:xfrm>
            <a:off x="4876920" y="2741760"/>
            <a:ext cx="3885840" cy="2971440"/>
            <a:chOff x="4876920" y="2741760"/>
            <a:chExt cx="3885840" cy="2971440"/>
          </a:xfrm>
        </p:grpSpPr>
        <p:sp>
          <p:nvSpPr>
            <p:cNvPr id="826" name="Puzzle3"/>
            <p:cNvSpPr/>
            <p:nvPr/>
          </p:nvSpPr>
          <p:spPr>
            <a:xfrm>
              <a:off x="6769440" y="2741760"/>
              <a:ext cx="1527480" cy="1579320"/>
            </a:xfrm>
            <a:custGeom>
              <a:avLst/>
              <a:gdLst>
                <a:gd name="textAreaLeft" fmla="*/ 160200 w 1527480"/>
                <a:gd name="textAreaRight" fmla="*/ 1354680 w 1527480"/>
                <a:gd name="textAreaTop" fmla="*/ 564120 h 1579320"/>
                <a:gd name="textAreaBottom" fmla="*/ 1479240 h 15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Puzzle2"/>
            <p:cNvSpPr/>
            <p:nvPr/>
          </p:nvSpPr>
          <p:spPr>
            <a:xfrm>
              <a:off x="6324840" y="3891960"/>
              <a:ext cx="2437920" cy="1438200"/>
            </a:xfrm>
            <a:custGeom>
              <a:avLst/>
              <a:gdLst>
                <a:gd name="textAreaLeft" fmla="*/ 608760 w 2437920"/>
                <a:gd name="textAreaRight" fmla="*/ 1826640 w 2437920"/>
                <a:gd name="textAreaTop" fmla="*/ 448200 h 1438200"/>
                <a:gd name="textAreaBottom" fmla="*/ 1361160 h 14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Puzzle4"/>
            <p:cNvSpPr/>
            <p:nvPr/>
          </p:nvSpPr>
          <p:spPr>
            <a:xfrm>
              <a:off x="5381280" y="3874320"/>
              <a:ext cx="1469880" cy="1838880"/>
            </a:xfrm>
            <a:custGeom>
              <a:avLst/>
              <a:gdLst>
                <a:gd name="textAreaLeft" fmla="*/ 141120 w 1469880"/>
                <a:gd name="textAreaRight" fmla="*/ 1375560 w 1469880"/>
                <a:gd name="textAreaTop" fmla="*/ 481680 h 1838880"/>
                <a:gd name="textAreaBottom" fmla="*/ 1360080 h 18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Puzzle1"/>
            <p:cNvSpPr/>
            <p:nvPr/>
          </p:nvSpPr>
          <p:spPr>
            <a:xfrm>
              <a:off x="4876920" y="3219480"/>
              <a:ext cx="2468160" cy="1096200"/>
            </a:xfrm>
            <a:custGeom>
              <a:avLst/>
              <a:gdLst>
                <a:gd name="textAreaLeft" fmla="*/ 695160 w 2468160"/>
                <a:gd name="textAreaRight" fmla="*/ 1842840 w 2468160"/>
                <a:gd name="textAreaTop" fmla="*/ 130320 h 1096200"/>
                <a:gd name="textAreaBottom" fmla="*/ 992160 h 10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30" name="Picture 9" descr="j0213395"/>
          <p:cNvPicPr/>
          <p:nvPr/>
        </p:nvPicPr>
        <p:blipFill>
          <a:blip r:embed="rId1"/>
          <a:stretch/>
        </p:blipFill>
        <p:spPr>
          <a:xfrm>
            <a:off x="4367160" y="4724280"/>
            <a:ext cx="1652760" cy="16002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0" descr="j0433934"/>
          <p:cNvPicPr/>
          <p:nvPr/>
        </p:nvPicPr>
        <p:blipFill>
          <a:blip r:embed="rId2"/>
          <a:stretch/>
        </p:blipFill>
        <p:spPr>
          <a:xfrm>
            <a:off x="409680" y="4192560"/>
            <a:ext cx="1419120" cy="182736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1"/>
          <p:cNvSpPr/>
          <p:nvPr/>
        </p:nvSpPr>
        <p:spPr>
          <a:xfrm>
            <a:off x="1371600" y="42670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500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ставьте с сотрудниками распис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228600" y="4572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к внешнему ауди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5715000" y="441792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берите информацию и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5" name="Picture 15" descr="MCj03636380000[1]"/>
          <p:cNvPicPr/>
          <p:nvPr/>
        </p:nvPicPr>
        <p:blipFill>
          <a:blip r:embed="rId3"/>
          <a:stretch/>
        </p:blipFill>
        <p:spPr>
          <a:xfrm>
            <a:off x="1065240" y="1598760"/>
            <a:ext cx="3201840" cy="24080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16"/>
          <p:cNvSpPr/>
          <p:nvPr/>
        </p:nvSpPr>
        <p:spPr>
          <a:xfrm>
            <a:off x="1143000" y="20178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делайте пл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D23F-28AD-43A1-859C-CD0D6EB561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чет внешнего аудита и план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5715000" y="2736720"/>
            <a:ext cx="266688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Выявите проб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304920" y="4572000"/>
            <a:ext cx="29718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регистрируйте результаты и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ишите отч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4724280" y="3733920"/>
            <a:ext cx="36576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Запланируйте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3962520" y="4876920"/>
            <a:ext cx="419076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ределите сро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4495680" y="1684440"/>
            <a:ext cx="441972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 понимает рекоменд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AutoShape 9"/>
          <p:cNvSpPr/>
          <p:nvPr/>
        </p:nvSpPr>
        <p:spPr>
          <a:xfrm>
            <a:off x="3048120" y="1752480"/>
            <a:ext cx="1371600" cy="7621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AutoShape 10"/>
          <p:cNvSpPr/>
          <p:nvPr/>
        </p:nvSpPr>
        <p:spPr>
          <a:xfrm rot="10800000">
            <a:off x="2819160" y="5715000"/>
            <a:ext cx="6019560" cy="838080"/>
          </a:xfrm>
          <a:custGeom>
            <a:avLst/>
            <a:gdLst>
              <a:gd name="textAreaLeft" fmla="*/ 940320 w 6019560"/>
              <a:gd name="textAreaRight" fmla="*/ 5267160 w 60195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AutoShape 11"/>
          <p:cNvSpPr/>
          <p:nvPr/>
        </p:nvSpPr>
        <p:spPr>
          <a:xfrm rot="5400000">
            <a:off x="6781320" y="3657600"/>
            <a:ext cx="3505320" cy="762120"/>
          </a:xfrm>
          <a:custGeom>
            <a:avLst/>
            <a:gdLst>
              <a:gd name="textAreaLeft" fmla="*/ 547560 w 3505320"/>
              <a:gd name="textAreaRight" fmla="*/ 3067200 w 35053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AutoShape 14"/>
          <p:cNvSpPr/>
          <p:nvPr/>
        </p:nvSpPr>
        <p:spPr>
          <a:xfrm>
            <a:off x="685800" y="1844640"/>
            <a:ext cx="2209680" cy="21938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вод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отчет ауди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5588-726B-4E04-97D6-427BF36524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Footer Placeholder 1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spy_guy_bck_col"/>
          <p:cNvPicPr/>
          <p:nvPr/>
        </p:nvPicPr>
        <p:blipFill>
          <a:blip r:embed="rId1"/>
          <a:stretch/>
        </p:blipFill>
        <p:spPr>
          <a:xfrm>
            <a:off x="380880" y="13716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j0335232"/>
          <p:cNvPicPr/>
          <p:nvPr/>
        </p:nvPicPr>
        <p:blipFill>
          <a:blip r:embed="rId2"/>
          <a:stretch/>
        </p:blipFill>
        <p:spPr>
          <a:xfrm>
            <a:off x="6629400" y="1447920"/>
            <a:ext cx="2057400" cy="195408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4"/>
          <p:cNvSpPr/>
          <p:nvPr/>
        </p:nvSpPr>
        <p:spPr>
          <a:xfrm>
            <a:off x="6553080" y="914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иб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Picture 5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6"/>
          <p:cNvSpPr/>
          <p:nvPr/>
        </p:nvSpPr>
        <p:spPr>
          <a:xfrm>
            <a:off x="6477120" y="367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Text Box 74"/>
          <p:cNvSpPr/>
          <p:nvPr/>
        </p:nvSpPr>
        <p:spPr>
          <a:xfrm>
            <a:off x="2590920" y="4695840"/>
            <a:ext cx="6629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ребуется стандартами ИС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, когда выявляют пробл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Text Box 75"/>
          <p:cNvSpPr/>
          <p:nvPr/>
        </p:nvSpPr>
        <p:spPr>
          <a:xfrm>
            <a:off x="2392200" y="1494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смотрите свои собственны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4F20-F4CC-46E2-8148-1732344C9C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1" name="Picture 1" descr=""/>
          <p:cNvPicPr/>
          <p:nvPr/>
        </p:nvPicPr>
        <p:blipFill>
          <a:blip r:embed="rId4"/>
          <a:stretch/>
        </p:blipFill>
        <p:spPr>
          <a:xfrm>
            <a:off x="392040" y="3932280"/>
            <a:ext cx="21988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нность внутренних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7636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авливают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ствуют осозна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преждающие и корректирующие действ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повышения квалиф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стандартам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11B8-0A67-4C60-8D98-209A563A4F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381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требования ИСО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685800" y="1371600"/>
            <a:ext cx="82296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а быть программа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должны быть задокументирова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удиторы должны быть независимыми от проверяем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документируются и передаются руководству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ение безотлагательных послед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B587-D888-49AD-A3EA-C2B26D758A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12"/>
          <p:cNvSpPr/>
          <p:nvPr/>
        </p:nvSpPr>
        <p:spPr>
          <a:xfrm>
            <a:off x="457200" y="465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304920" y="19051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е проводите аудит собственной рабо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76BC-382B-4C07-AA3A-E0431414F5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3886200" y="762120"/>
            <a:ext cx="5029200" cy="48765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5029200" y="175248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6248520" y="5181480"/>
            <a:ext cx="266688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ус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Arc 5"/>
          <p:cNvSpPr/>
          <p:nvPr/>
        </p:nvSpPr>
        <p:spPr>
          <a:xfrm>
            <a:off x="7118280" y="25686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льми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Arc 6"/>
          <p:cNvSpPr/>
          <p:nvPr/>
        </p:nvSpPr>
        <p:spPr>
          <a:xfrm rot="5400000">
            <a:off x="5295600" y="3162240"/>
            <a:ext cx="129564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ч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AutoShape 7"/>
          <p:cNvSpPr/>
          <p:nvPr/>
        </p:nvSpPr>
        <p:spPr>
          <a:xfrm rot="10800000">
            <a:off x="7962840" y="3580920"/>
            <a:ext cx="603360" cy="1752840"/>
          </a:xfrm>
          <a:prstGeom prst="downArrow">
            <a:avLst>
              <a:gd name="adj1" fmla="val 55843"/>
              <a:gd name="adj2" fmla="val 87100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AutoShape 8"/>
          <p:cNvSpPr/>
          <p:nvPr/>
        </p:nvSpPr>
        <p:spPr>
          <a:xfrm rot="3939000">
            <a:off x="6377400" y="2399400"/>
            <a:ext cx="537840" cy="1523880"/>
          </a:xfrm>
          <a:prstGeom prst="downArrow">
            <a:avLst>
              <a:gd name="adj1" fmla="val 50000"/>
              <a:gd name="adj2" fmla="val 8338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AutoShape 9"/>
          <p:cNvSpPr/>
          <p:nvPr/>
        </p:nvSpPr>
        <p:spPr>
          <a:xfrm rot="17854200">
            <a:off x="4418640" y="4769280"/>
            <a:ext cx="1833480" cy="536400"/>
          </a:xfrm>
          <a:prstGeom prst="rightArrow">
            <a:avLst>
              <a:gd name="adj1" fmla="val 50000"/>
              <a:gd name="adj2" fmla="val 10950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4952880" y="1905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Бактери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4648320" y="67464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аборатория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14"/>
          <p:cNvSpPr/>
          <p:nvPr/>
        </p:nvSpPr>
        <p:spPr>
          <a:xfrm>
            <a:off x="2362320" y="5029200"/>
            <a:ext cx="25146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сультант, другая 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17"/>
          <p:cNvGrpSpPr/>
          <p:nvPr/>
        </p:nvGrpSpPr>
        <p:grpSpPr>
          <a:xfrm>
            <a:off x="606600" y="785880"/>
            <a:ext cx="8537400" cy="5705280"/>
            <a:chOff x="606600" y="785880"/>
            <a:chExt cx="8537400" cy="5705280"/>
          </a:xfrm>
        </p:grpSpPr>
        <p:grpSp>
          <p:nvGrpSpPr>
            <p:cNvPr id="886" name="Diagram 2"/>
            <p:cNvGrpSpPr/>
            <p:nvPr/>
          </p:nvGrpSpPr>
          <p:grpSpPr>
            <a:xfrm>
              <a:off x="606600" y="785880"/>
              <a:ext cx="8084160" cy="4377960"/>
              <a:chOff x="606600" y="785880"/>
              <a:chExt cx="8084160" cy="4377960"/>
            </a:xfrm>
          </p:grpSpPr>
          <p:sp>
            <p:nvSpPr>
              <p:cNvPr id="887" name="_s1028"/>
              <p:cNvSpPr/>
              <p:nvPr/>
            </p:nvSpPr>
            <p:spPr>
              <a:xfrm flipH="1">
                <a:off x="2702520" y="3809520"/>
                <a:ext cx="969480" cy="5497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8" name="_s1029"/>
              <p:cNvSpPr/>
              <p:nvPr/>
            </p:nvSpPr>
            <p:spPr>
              <a:xfrm>
                <a:off x="606600" y="3734640"/>
                <a:ext cx="2441160" cy="142920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Подготовьте 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документы</a:t>
                </a:r>
                <a:r>
                  <a:rPr b="1" lang="ru-RU" sz="25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br>
                  <a:rPr sz="1500"/>
                </a:b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контрольные списки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формы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9" name="_s1030"/>
              <p:cNvSpPr/>
              <p:nvPr/>
            </p:nvSpPr>
            <p:spPr>
              <a:xfrm>
                <a:off x="5621400" y="4001760"/>
                <a:ext cx="973080" cy="3553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0" name="_s1031"/>
              <p:cNvSpPr/>
              <p:nvPr/>
            </p:nvSpPr>
            <p:spPr>
              <a:xfrm>
                <a:off x="6443280" y="3582000"/>
                <a:ext cx="2247480" cy="158184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Составьте график регулярных аудитов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_s1032"/>
              <p:cNvSpPr/>
              <p:nvPr/>
            </p:nvSpPr>
            <p:spPr>
              <a:xfrm flipV="1">
                <a:off x="4573440" y="2214720"/>
                <a:ext cx="0" cy="71460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2" name="_s1033"/>
              <p:cNvSpPr/>
              <p:nvPr/>
            </p:nvSpPr>
            <p:spPr>
              <a:xfrm>
                <a:off x="3354120" y="785880"/>
                <a:ext cx="2418120" cy="14292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99"/>
                    </a:solidFill>
                    <a:latin typeface="Verdana"/>
                  </a:rPr>
                  <a:t>Программа внутреннего аудита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3" name="_s1034"/>
              <p:cNvSpPr/>
              <p:nvPr/>
            </p:nvSpPr>
            <p:spPr>
              <a:xfrm>
                <a:off x="3354120" y="2743560"/>
                <a:ext cx="2513520" cy="14295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Распределите обязанности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94" name="Text Box 11"/>
            <p:cNvSpPr/>
            <p:nvPr/>
          </p:nvSpPr>
          <p:spPr>
            <a:xfrm>
              <a:off x="6324480" y="5776920"/>
              <a:ext cx="281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95" name="Picture 12" descr="j0432664"/>
            <p:cNvPicPr/>
            <p:nvPr/>
          </p:nvPicPr>
          <p:blipFill>
            <a:blip r:embed="rId5"/>
            <a:stretch/>
          </p:blipFill>
          <p:spPr>
            <a:xfrm>
              <a:off x="4800600" y="4724280"/>
              <a:ext cx="2590920" cy="17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13" descr="bs00272_"/>
            <p:cNvPicPr/>
            <p:nvPr/>
          </p:nvPicPr>
          <p:blipFill>
            <a:blip r:embed="rId6"/>
            <a:stretch/>
          </p:blipFill>
          <p:spPr>
            <a:xfrm>
              <a:off x="2438280" y="4952880"/>
              <a:ext cx="2057400" cy="13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14" descr="MCj04349290000[1]"/>
            <p:cNvPicPr/>
            <p:nvPr/>
          </p:nvPicPr>
          <p:blipFill>
            <a:blip r:embed="rId7"/>
            <a:stretch/>
          </p:blipFill>
          <p:spPr>
            <a:xfrm>
              <a:off x="762120" y="190512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5" descr="head"/>
            <p:cNvPicPr/>
            <p:nvPr/>
          </p:nvPicPr>
          <p:blipFill>
            <a:blip r:embed="rId8"/>
            <a:stretch/>
          </p:blipFill>
          <p:spPr>
            <a:xfrm>
              <a:off x="6075360" y="1905120"/>
              <a:ext cx="12114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9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696D-6665-4C5F-B0B6-BD9FF6BAE1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4520" y="526680"/>
            <a:ext cx="791496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роцесс для подготовки сотрудников своей лаборатории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ть программу внутренних аудитов и управлять 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, как использовать результаты ауди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гументировать важность проведения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2E08-93E9-45D7-AA8C-A9F88DCFE2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AutoShape 2"/>
          <p:cNvSpPr/>
          <p:nvPr/>
        </p:nvSpPr>
        <p:spPr>
          <a:xfrm rot="16200000">
            <a:off x="3601800" y="3103560"/>
            <a:ext cx="3463920" cy="609480"/>
          </a:xfrm>
          <a:prstGeom prst="rightArrow">
            <a:avLst>
              <a:gd name="adj1" fmla="val 50000"/>
              <a:gd name="adj2" fmla="val 17158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AutoShape 3"/>
          <p:cNvSpPr/>
          <p:nvPr/>
        </p:nvSpPr>
        <p:spPr>
          <a:xfrm>
            <a:off x="5105520" y="4267080"/>
            <a:ext cx="274320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1066680" y="609480"/>
            <a:ext cx="7010640" cy="990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1066680" y="7873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Руководитель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AutoShape 6"/>
          <p:cNvSpPr/>
          <p:nvPr/>
        </p:nvSpPr>
        <p:spPr>
          <a:xfrm>
            <a:off x="762120" y="228600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Oval 7"/>
          <p:cNvSpPr/>
          <p:nvPr/>
        </p:nvSpPr>
        <p:spPr>
          <a:xfrm>
            <a:off x="380880" y="449568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Rectangle 8"/>
          <p:cNvSpPr/>
          <p:nvPr/>
        </p:nvSpPr>
        <p:spPr>
          <a:xfrm>
            <a:off x="5791320" y="2879640"/>
            <a:ext cx="2895480" cy="14637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914400" y="2286000"/>
            <a:ext cx="3048120" cy="1410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определяет правила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457200" y="4648320"/>
            <a:ext cx="39625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аспределя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бяза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 программ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внутренних аудитов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Менеджер по каче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5257800" y="489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5791320" y="2921040"/>
            <a:ext cx="2971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оддерживает проведение 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AutoShape 13"/>
          <p:cNvSpPr/>
          <p:nvPr/>
        </p:nvSpPr>
        <p:spPr>
          <a:xfrm rot="5400000">
            <a:off x="2018880" y="1409760"/>
            <a:ext cx="685800" cy="1066680"/>
          </a:xfrm>
          <a:custGeom>
            <a:avLst/>
            <a:gdLst>
              <a:gd name="textAreaLeft" fmla="*/ 106920 w 685800"/>
              <a:gd name="textAreaRight" fmla="*/ 600120 w 685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AutoShape 14"/>
          <p:cNvSpPr/>
          <p:nvPr/>
        </p:nvSpPr>
        <p:spPr>
          <a:xfrm rot="5400000">
            <a:off x="2018880" y="3543120"/>
            <a:ext cx="761760" cy="1143000"/>
          </a:xfrm>
          <a:custGeom>
            <a:avLst/>
            <a:gdLst>
              <a:gd name="textAreaLeft" fmla="*/ 118800 w 761760"/>
              <a:gd name="textAreaRight" fmla="*/ 666720 w 76176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AutoShape 15"/>
          <p:cNvSpPr/>
          <p:nvPr/>
        </p:nvSpPr>
        <p:spPr>
          <a:xfrm rot="5400000">
            <a:off x="6514920" y="1638360"/>
            <a:ext cx="1066680" cy="11430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AutoShape 16"/>
          <p:cNvSpPr/>
          <p:nvPr/>
        </p:nvSpPr>
        <p:spPr>
          <a:xfrm>
            <a:off x="4038480" y="5486400"/>
            <a:ext cx="1295640" cy="457200"/>
          </a:xfrm>
          <a:prstGeom prst="rightArrow">
            <a:avLst>
              <a:gd name="adj1" fmla="val 50000"/>
              <a:gd name="adj2" fmla="val 7501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AutoShape 19"/>
          <p:cNvSpPr/>
          <p:nvPr/>
        </p:nvSpPr>
        <p:spPr>
          <a:xfrm>
            <a:off x="457200" y="5486400"/>
            <a:ext cx="387360" cy="533520"/>
          </a:xfrm>
          <a:custGeom>
            <a:avLst/>
            <a:gdLst>
              <a:gd name="textAreaLeft" fmla="*/ 60480 w 387360"/>
              <a:gd name="textAreaRight" fmla="*/ 339120 w 387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Slide Number Placeholder 1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7D14-46AE-4A64-A9BD-8605EBD544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Footer Placeholder 1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2"/>
          <p:cNvSpPr/>
          <p:nvPr/>
        </p:nvSpPr>
        <p:spPr>
          <a:xfrm>
            <a:off x="304920" y="609480"/>
            <a:ext cx="8458200" cy="1014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Verdana"/>
              </a:rPr>
              <a:t>Обязанности менеджера по качеств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вести и поддерживать систему внутренних ауди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Oval 3"/>
          <p:cNvSpPr/>
          <p:nvPr/>
        </p:nvSpPr>
        <p:spPr>
          <a:xfrm>
            <a:off x="3048120" y="2438280"/>
            <a:ext cx="3124080" cy="1600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3200400" y="2819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координирова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ь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 процесс 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AutoShape 7"/>
          <p:cNvSpPr/>
          <p:nvPr/>
        </p:nvSpPr>
        <p:spPr>
          <a:xfrm rot="5400000">
            <a:off x="4228920" y="1638360"/>
            <a:ext cx="609840" cy="838080"/>
          </a:xfrm>
          <a:custGeom>
            <a:avLst/>
            <a:gdLst>
              <a:gd name="textAreaLeft" fmla="*/ 95040 w 609840"/>
              <a:gd name="textAreaRight" fmla="*/ 533880 w 6098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AutoShape 10"/>
          <p:cNvSpPr/>
          <p:nvPr/>
        </p:nvSpPr>
        <p:spPr>
          <a:xfrm>
            <a:off x="3429000" y="4419720"/>
            <a:ext cx="2286000" cy="167616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Oval 11"/>
          <p:cNvSpPr/>
          <p:nvPr/>
        </p:nvSpPr>
        <p:spPr>
          <a:xfrm>
            <a:off x="6705720" y="5029200"/>
            <a:ext cx="2133360" cy="1143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Oval 12"/>
          <p:cNvSpPr/>
          <p:nvPr/>
        </p:nvSpPr>
        <p:spPr>
          <a:xfrm>
            <a:off x="380880" y="5105520"/>
            <a:ext cx="1981440" cy="990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 Box 13"/>
          <p:cNvSpPr/>
          <p:nvPr/>
        </p:nvSpPr>
        <p:spPr>
          <a:xfrm>
            <a:off x="45720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сотрудник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 Box 14"/>
          <p:cNvSpPr/>
          <p:nvPr/>
        </p:nvSpPr>
        <p:spPr>
          <a:xfrm>
            <a:off x="6781680" y="5226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руковод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AutoShape 16"/>
          <p:cNvSpPr/>
          <p:nvPr/>
        </p:nvSpPr>
        <p:spPr>
          <a:xfrm>
            <a:off x="5410080" y="5410080"/>
            <a:ext cx="1371600" cy="45720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AutoShape 17"/>
          <p:cNvSpPr/>
          <p:nvPr/>
        </p:nvSpPr>
        <p:spPr>
          <a:xfrm rot="10800000">
            <a:off x="228600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AutoShape 21"/>
          <p:cNvSpPr/>
          <p:nvPr/>
        </p:nvSpPr>
        <p:spPr>
          <a:xfrm>
            <a:off x="152280" y="2651040"/>
            <a:ext cx="2133720" cy="777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Text Box 22"/>
          <p:cNvSpPr/>
          <p:nvPr/>
        </p:nvSpPr>
        <p:spPr>
          <a:xfrm>
            <a:off x="228600" y="2666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разработать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AutoShape 23"/>
          <p:cNvSpPr/>
          <p:nvPr/>
        </p:nvSpPr>
        <p:spPr>
          <a:xfrm rot="11374200">
            <a:off x="2199960" y="2861640"/>
            <a:ext cx="1000080" cy="555480"/>
          </a:xfrm>
          <a:custGeom>
            <a:avLst/>
            <a:gdLst>
              <a:gd name="textAreaLeft" fmla="*/ 156240 w 1000080"/>
              <a:gd name="textAreaRight" fmla="*/ 875160 w 10000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AutoShape 24"/>
          <p:cNvSpPr/>
          <p:nvPr/>
        </p:nvSpPr>
        <p:spPr>
          <a:xfrm>
            <a:off x="152280" y="3565440"/>
            <a:ext cx="213372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Text Box 25"/>
          <p:cNvSpPr/>
          <p:nvPr/>
        </p:nvSpPr>
        <p:spPr>
          <a:xfrm>
            <a:off x="304920" y="35654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выбрать и</a:t>
            </a: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обучить аудит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AutoShape 26"/>
          <p:cNvSpPr/>
          <p:nvPr/>
        </p:nvSpPr>
        <p:spPr>
          <a:xfrm rot="9818400">
            <a:off x="2244240" y="3549600"/>
            <a:ext cx="954360" cy="555840"/>
          </a:xfrm>
          <a:custGeom>
            <a:avLst/>
            <a:gdLst>
              <a:gd name="textAreaLeft" fmla="*/ 149040 w 954360"/>
              <a:gd name="textAreaRight" fmla="*/ 835200 w 954360"/>
              <a:gd name="textAreaTop" fmla="*/ 138960 h 555840"/>
              <a:gd name="textAreaBottom" fmla="*/ 416880 h 555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Slide Number Placeholder 2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2348-F967-4497-B50C-4620466A73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Footer Placeholder 2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AutoShape 31"/>
          <p:cNvSpPr/>
          <p:nvPr/>
        </p:nvSpPr>
        <p:spPr>
          <a:xfrm>
            <a:off x="6451560" y="2743200"/>
            <a:ext cx="2387520" cy="981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6451560" y="281952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управлять корректирующими действия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AutoShape 6"/>
          <p:cNvSpPr/>
          <p:nvPr/>
        </p:nvSpPr>
        <p:spPr>
          <a:xfrm rot="19251600">
            <a:off x="5284800" y="4073040"/>
            <a:ext cx="2023920" cy="484200"/>
          </a:xfrm>
          <a:custGeom>
            <a:avLst/>
            <a:gdLst>
              <a:gd name="textAreaLeft" fmla="*/ 316080 w 2023920"/>
              <a:gd name="textAreaRight" fmla="*/ 1771200 w 20239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TextBox 1"/>
          <p:cNvSpPr/>
          <p:nvPr/>
        </p:nvSpPr>
        <p:spPr>
          <a:xfrm>
            <a:off x="3726360" y="4851360"/>
            <a:ext cx="184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зультат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утренни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внутренних аудит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контрольные спис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од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 проанализируйте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шите результа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заключитель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е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CCFC-0DE2-413D-9754-9C115CDC94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1" descr=""/>
          <p:cNvPicPr/>
          <p:nvPr/>
        </p:nvPicPr>
        <p:blipFill>
          <a:blip r:embed="rId1"/>
          <a:stretch/>
        </p:blipFill>
        <p:spPr>
          <a:xfrm>
            <a:off x="3171960" y="3726000"/>
            <a:ext cx="2752560" cy="255744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график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33520" y="138060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е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лее частые аудиты там, где проблемы, или на участках, нуждающихся в улучш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аг за шагом аудиты должны рассмотреть все элементы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9" name="Diagram 2"/>
          <p:cNvGrpSpPr/>
          <p:nvPr/>
        </p:nvGrpSpPr>
        <p:grpSpPr>
          <a:xfrm>
            <a:off x="2989440" y="3763800"/>
            <a:ext cx="2876760" cy="2556720"/>
            <a:chOff x="2989440" y="3763800"/>
            <a:chExt cx="2876760" cy="2556720"/>
          </a:xfrm>
        </p:grpSpPr>
        <p:sp>
          <p:nvSpPr>
            <p:cNvPr id="950" name="_s2052"/>
            <p:cNvSpPr/>
            <p:nvPr/>
          </p:nvSpPr>
          <p:spPr>
            <a:xfrm>
              <a:off x="3535920" y="3907080"/>
              <a:ext cx="2026080" cy="1960560"/>
            </a:xfrm>
            <a:custGeom>
              <a:avLst/>
              <a:gdLst>
                <a:gd name="textAreaLeft" fmla="*/ 297000 w 2026080"/>
                <a:gd name="textAreaRight" fmla="*/ 1729080 w 2026080"/>
                <a:gd name="textAreaTop" fmla="*/ 286560 h 1960560"/>
                <a:gd name="textAreaBottom" fmla="*/ 1674000 h 196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_s2053"/>
            <p:cNvSpPr/>
            <p:nvPr/>
          </p:nvSpPr>
          <p:spPr>
            <a:xfrm rot="5695200">
              <a:off x="3698640" y="4101120"/>
              <a:ext cx="1829880" cy="2356920"/>
            </a:xfrm>
            <a:custGeom>
              <a:avLst/>
              <a:gdLst>
                <a:gd name="textAreaLeft" fmla="*/ 267840 w 1829880"/>
                <a:gd name="textAreaRight" fmla="*/ 1562040 w 1829880"/>
                <a:gd name="textAreaTop" fmla="*/ 344880 h 2356920"/>
                <a:gd name="textAreaBottom" fmla="*/ 2012040 h 23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_s2054"/>
            <p:cNvSpPr/>
            <p:nvPr/>
          </p:nvSpPr>
          <p:spPr>
            <a:xfrm rot="15971400">
              <a:off x="3524040" y="4209120"/>
              <a:ext cx="1839960" cy="2238120"/>
            </a:xfrm>
            <a:custGeom>
              <a:avLst/>
              <a:gdLst>
                <a:gd name="textAreaLeft" fmla="*/ 269640 w 1839960"/>
                <a:gd name="textAreaRight" fmla="*/ 1570320 w 1839960"/>
                <a:gd name="textAreaTop" fmla="*/ 327600 h 2238120"/>
                <a:gd name="textAreaBottom" fmla="*/ 1910520 h 22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_s2055"/>
            <p:cNvSpPr/>
            <p:nvPr/>
          </p:nvSpPr>
          <p:spPr>
            <a:xfrm>
              <a:off x="491220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_s2056"/>
            <p:cNvSpPr/>
            <p:nvPr/>
          </p:nvSpPr>
          <p:spPr>
            <a:xfrm>
              <a:off x="3950640" y="5275440"/>
              <a:ext cx="81324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5" name="_s2057"/>
            <p:cNvSpPr/>
            <p:nvPr/>
          </p:nvSpPr>
          <p:spPr>
            <a:xfrm>
              <a:off x="298944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E3B1-CF14-44DC-ACA3-8C24D1E3AC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21920" y="44892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74800" y="1477800"/>
            <a:ext cx="5449680" cy="19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онтрольные спис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азработайте формы для записи корректирующих действий и для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0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1066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9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597C-3597-4DCA-A9D1-187B312FD3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2"/>
          <a:stretch/>
        </p:blipFill>
        <p:spPr>
          <a:xfrm>
            <a:off x="2998800" y="3892680"/>
            <a:ext cx="302112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Diagram 2"/>
          <p:cNvGrpSpPr/>
          <p:nvPr/>
        </p:nvGrpSpPr>
        <p:grpSpPr>
          <a:xfrm>
            <a:off x="609480" y="758880"/>
            <a:ext cx="7878240" cy="5334840"/>
            <a:chOff x="609480" y="758880"/>
            <a:chExt cx="7878240" cy="5334840"/>
          </a:xfrm>
        </p:grpSpPr>
        <p:sp>
          <p:nvSpPr>
            <p:cNvPr id="965" name="_s3076"/>
            <p:cNvSpPr/>
            <p:nvPr/>
          </p:nvSpPr>
          <p:spPr>
            <a:xfrm flipH="1" flipV="1">
              <a:off x="2869560" y="3141360"/>
              <a:ext cx="925920" cy="21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_s3077"/>
            <p:cNvSpPr/>
            <p:nvPr/>
          </p:nvSpPr>
          <p:spPr>
            <a:xfrm>
              <a:off x="609480" y="2219400"/>
              <a:ext cx="2306160" cy="141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Эффективное взаимодействие с людьм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7" name="_s3078"/>
            <p:cNvSpPr/>
            <p:nvPr/>
          </p:nvSpPr>
          <p:spPr>
            <a:xfrm flipH="1">
              <a:off x="3578040" y="4150440"/>
              <a:ext cx="57132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8" name="_s3079"/>
            <p:cNvSpPr/>
            <p:nvPr/>
          </p:nvSpPr>
          <p:spPr>
            <a:xfrm>
              <a:off x="1764000" y="4682880"/>
              <a:ext cx="2216880" cy="141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омпетентность: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Специальные знания</a:t>
              </a: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/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Управлени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ачеством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_s3080"/>
            <p:cNvSpPr/>
            <p:nvPr/>
          </p:nvSpPr>
          <p:spPr>
            <a:xfrm>
              <a:off x="5298480" y="4150440"/>
              <a:ext cx="57456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0" name="_s3081"/>
            <p:cNvSpPr/>
            <p:nvPr/>
          </p:nvSpPr>
          <p:spPr>
            <a:xfrm>
              <a:off x="5561640" y="4682880"/>
              <a:ext cx="2286000" cy="141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ипломатичны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_s3082"/>
            <p:cNvSpPr/>
            <p:nvPr/>
          </p:nvSpPr>
          <p:spPr>
            <a:xfrm flipV="1">
              <a:off x="5652720" y="3143880"/>
              <a:ext cx="928440" cy="218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_s3083"/>
            <p:cNvSpPr/>
            <p:nvPr/>
          </p:nvSpPr>
          <p:spPr>
            <a:xfrm>
              <a:off x="6532920" y="2219400"/>
              <a:ext cx="1954800" cy="141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ученн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_s3084"/>
            <p:cNvSpPr/>
            <p:nvPr/>
          </p:nvSpPr>
          <p:spPr>
            <a:xfrm flipV="1">
              <a:off x="4724280" y="2169360"/>
              <a:ext cx="0" cy="705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_s3085"/>
            <p:cNvSpPr/>
            <p:nvPr/>
          </p:nvSpPr>
          <p:spPr>
            <a:xfrm>
              <a:off x="3746880" y="758880"/>
              <a:ext cx="1954080" cy="141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нимани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 деталя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_s3086"/>
            <p:cNvSpPr/>
            <p:nvPr/>
          </p:nvSpPr>
          <p:spPr>
            <a:xfrm>
              <a:off x="3746880" y="2875320"/>
              <a:ext cx="1954080" cy="1411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76" name="Picture 15" descr="bs01872_"/>
          <p:cNvPicPr/>
          <p:nvPr/>
        </p:nvPicPr>
        <p:blipFill>
          <a:blip r:embed="rId7"/>
          <a:stretch/>
        </p:blipFill>
        <p:spPr>
          <a:xfrm>
            <a:off x="1752480" y="685800"/>
            <a:ext cx="2057400" cy="14652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6" descr="MCj02352750000[1]"/>
          <p:cNvPicPr/>
          <p:nvPr/>
        </p:nvPicPr>
        <p:blipFill>
          <a:blip r:embed="rId8"/>
          <a:stretch/>
        </p:blipFill>
        <p:spPr>
          <a:xfrm>
            <a:off x="3962520" y="457200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7" descr="MCj02341200000[1]"/>
          <p:cNvPicPr/>
          <p:nvPr/>
        </p:nvPicPr>
        <p:blipFill>
          <a:blip r:embed="rId9"/>
          <a:stretch/>
        </p:blipFill>
        <p:spPr>
          <a:xfrm>
            <a:off x="7086600" y="3657600"/>
            <a:ext cx="1555920" cy="1752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8" descr="bd20208_"/>
          <p:cNvPicPr/>
          <p:nvPr/>
        </p:nvPicPr>
        <p:blipFill>
          <a:blip r:embed="rId10"/>
          <a:stretch/>
        </p:blipFill>
        <p:spPr>
          <a:xfrm>
            <a:off x="6019920" y="758880"/>
            <a:ext cx="2278080" cy="1434960"/>
          </a:xfrm>
          <a:prstGeom prst="rect">
            <a:avLst/>
          </a:prstGeom>
          <a:ln w="0">
            <a:noFill/>
          </a:ln>
        </p:spPr>
      </p:pic>
      <p:sp>
        <p:nvSpPr>
          <p:cNvPr id="980" name="Text Box 20"/>
          <p:cNvSpPr/>
          <p:nvPr/>
        </p:nvSpPr>
        <p:spPr>
          <a:xfrm>
            <a:off x="3581280" y="2590920"/>
            <a:ext cx="2322720" cy="1697040"/>
          </a:xfrm>
          <a:prstGeom prst="rect">
            <a:avLst/>
          </a:prstGeom>
          <a:solidFill>
            <a:srgbClr val="99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Verdana"/>
              </a:rPr>
              <a:t>Навыки, нужные аудитора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2BC5-0B64-4FF7-ACB0-41F951178A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12" descr="pe03301_"/>
          <p:cNvPicPr/>
          <p:nvPr/>
        </p:nvPicPr>
        <p:blipFill>
          <a:blip r:embed="rId11"/>
          <a:stretch/>
        </p:blipFill>
        <p:spPr>
          <a:xfrm>
            <a:off x="349200" y="3429000"/>
            <a:ext cx="14032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AutoShape 2"/>
          <p:cNvSpPr/>
          <p:nvPr/>
        </p:nvSpPr>
        <p:spPr>
          <a:xfrm>
            <a:off x="1523880" y="182880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AutoShape 3"/>
          <p:cNvSpPr/>
          <p:nvPr/>
        </p:nvSpPr>
        <p:spPr>
          <a:xfrm rot="5400000">
            <a:off x="2019240" y="3009960"/>
            <a:ext cx="914400" cy="129528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 должен приводи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AutoShape 5"/>
          <p:cNvSpPr/>
          <p:nvPr/>
        </p:nvSpPr>
        <p:spPr>
          <a:xfrm>
            <a:off x="990720" y="4419720"/>
            <a:ext cx="3047760" cy="1447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озможности для улучш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AutoShape 6"/>
          <p:cNvSpPr/>
          <p:nvPr/>
        </p:nvSpPr>
        <p:spPr>
          <a:xfrm rot="20101800">
            <a:off x="3879360" y="3516120"/>
            <a:ext cx="2038320" cy="1295280"/>
          </a:xfrm>
          <a:custGeom>
            <a:avLst/>
            <a:gdLst>
              <a:gd name="textAreaLeft" fmla="*/ 318240 w 2038320"/>
              <a:gd name="textAreaRight" fmla="*/ 1783800 w 20383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AutoShape 7"/>
          <p:cNvSpPr/>
          <p:nvPr/>
        </p:nvSpPr>
        <p:spPr>
          <a:xfrm>
            <a:off x="5791320" y="18288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Действуй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E93A-C145-4BB2-A352-A280D78CC6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Footer Placeholder 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рректирующие действ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993" name="Picture 4" descr="j0435880"/>
          <p:cNvPicPr/>
          <p:nvPr/>
        </p:nvPicPr>
        <p:blipFill>
          <a:blip r:embed="rId1"/>
          <a:stretch/>
        </p:blipFill>
        <p:spPr>
          <a:xfrm>
            <a:off x="5257800" y="2743200"/>
            <a:ext cx="3124080" cy="2705040"/>
          </a:xfrm>
          <a:prstGeom prst="rect">
            <a:avLst/>
          </a:prstGeom>
          <a:ln w="0">
            <a:noFill/>
          </a:ln>
        </p:spPr>
      </p:pic>
      <p:sp>
        <p:nvSpPr>
          <p:cNvPr id="994" name="Text Box 6"/>
          <p:cNvSpPr/>
          <p:nvPr/>
        </p:nvSpPr>
        <p:spPr>
          <a:xfrm>
            <a:off x="457200" y="4800600"/>
            <a:ext cx="5791320" cy="106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то ответственны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Менеджер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3E2B-2A5B-4E9F-BEF4-D5161E7046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440" y="1999800"/>
            <a:ext cx="746748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шаги, предпринятые для улучшения процессов или исправления недостатк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корректирующих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736200" y="1887120"/>
            <a:ext cx="81025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омандой по разрешению пробле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дите корневую причину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план соответствующих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 всех действий и выв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наблюд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3651-50A4-43B8-838B-6513B9BD94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регистрации возможностей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3" name="Rectangle 67"/>
          <p:cNvSpPr/>
          <p:nvPr/>
        </p:nvSpPr>
        <p:spPr>
          <a:xfrm>
            <a:off x="609480" y="7162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Rectangle 79"/>
          <p:cNvSpPr/>
          <p:nvPr/>
        </p:nvSpPr>
        <p:spPr>
          <a:xfrm>
            <a:off x="1676520" y="1984320"/>
            <a:ext cx="5715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ующие действия являются результатом: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   ___   _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             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      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утреннего аудита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   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   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ешнего аудита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1676520" y="2975040"/>
          <a:ext cx="5716440" cy="1747800"/>
        </p:xfrm>
        <a:graphic>
          <a:graphicData uri="http://schemas.openxmlformats.org/drawingml/2006/table">
            <a:tbl>
              <a:tblPr/>
              <a:tblGrid>
                <a:gridCol w="5716440"/>
              </a:tblGrid>
              <a:tr h="3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проблемы или выводов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случилось и почем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о: (Имя сотрудника) 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6" name=""/>
          <p:cNvGraphicFramePr/>
          <p:nvPr/>
        </p:nvGraphicFramePr>
        <p:xfrm>
          <a:off x="1676520" y="4905360"/>
          <a:ext cx="5715000" cy="120636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ые корректирующие действия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было сделано, чтобы предотвратить повторение?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7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8F00-EE41-4D19-B508-18F5718B5A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TextBox 1"/>
          <p:cNvSpPr/>
          <p:nvPr/>
        </p:nvSpPr>
        <p:spPr>
          <a:xfrm>
            <a:off x="3059640" y="17524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корректирующих действ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952280"/>
            <a:ext cx="815328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ы являетесь менеджером п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у в лаборатории 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отите организовать внутрен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удит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акие шаги вы предпримете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31C0-4E38-460A-AAD1-E37ADF650A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30B1-2FB4-4809-8E1B-CB8CC80725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Text Box 10"/>
          <p:cNvSpPr/>
          <p:nvPr/>
        </p:nvSpPr>
        <p:spPr>
          <a:xfrm>
            <a:off x="2438280" y="19051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Постоянное отслеживание 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это ключ к успеху в системе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9C69-ACA3-472A-949B-6A23C0E83B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9" name="Diagram 46"/>
          <p:cNvGrpSpPr/>
          <p:nvPr/>
        </p:nvGrpSpPr>
        <p:grpSpPr>
          <a:xfrm>
            <a:off x="533520" y="533520"/>
            <a:ext cx="8229240" cy="6152040"/>
            <a:chOff x="533520" y="533520"/>
            <a:chExt cx="8229240" cy="6152040"/>
          </a:xfrm>
        </p:grpSpPr>
        <p:sp>
          <p:nvSpPr>
            <p:cNvPr id="1020" name="AutoShape 45"/>
            <p:cNvSpPr/>
            <p:nvPr/>
          </p:nvSpPr>
          <p:spPr>
            <a:xfrm>
              <a:off x="533520" y="533520"/>
              <a:ext cx="8229240" cy="58017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1" name="_s1028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780120 w 5317200"/>
                <a:gd name="textAreaRight" fmla="*/ 4537080 w 5317200"/>
                <a:gd name="textAreaTop" fmla="*/ 549720 h 3748680"/>
                <a:gd name="textAreaBottom" fmla="*/ 319896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2" name="_s1029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920"/>
                <a:gd name="textAreaBottom" fmla="*/ 453780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3" name="_s1030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200"/>
                <a:gd name="textAreaBottom" fmla="*/ 453708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4" name="_s1031"/>
            <p:cNvSpPr/>
            <p:nvPr/>
          </p:nvSpPr>
          <p:spPr>
            <a:xfrm>
              <a:off x="533520" y="1470600"/>
              <a:ext cx="2896920" cy="22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Отслеживание</a:t>
              </a:r>
              <a:r>
                <a:rPr b="1" lang="en-US" sz="2000" spc="-1" strike="noStrike">
                  <a:solidFill>
                    <a:srgbClr val="f1e21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и оценк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удовлетворенность клиентов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нтроль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мпетентност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ауди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5" name="_s1032"/>
            <p:cNvSpPr/>
            <p:nvPr/>
          </p:nvSpPr>
          <p:spPr>
            <a:xfrm>
              <a:off x="3582000" y="4735800"/>
              <a:ext cx="243756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  <a:ea typeface="Times New Roman"/>
                </a:rPr>
                <a:t>План корректирующих действи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_s1033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</a:rPr>
                <a:t>План по улучшению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7" name="Text Box 65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прерывное улучшение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E10B-3D3C-4D07-9938-13281D6512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Text Box 2"/>
          <p:cNvSpPr/>
          <p:nvPr/>
        </p:nvSpPr>
        <p:spPr>
          <a:xfrm>
            <a:off x="685800" y="914400"/>
            <a:ext cx="7696080" cy="48942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«Важно не то, что вы обнаружили…,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важно то, что вы сделали с тем, что вы обнаружили"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181160"/>
            <a:ext cx="83948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я роль оценки – в отслеживании эффективности системы управления качеством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внешние, и внутренние аудиты дают полезную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результатам оценки выявляют корневые причины проблем и проводят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7DFF-A368-4DA9-A8EF-E4EAC8B839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лаборатории должны организовать программу внутренних аудитов. При регулярном проведении программа будет предоставлять информацию для непрерывного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превратятся в возможности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EF02-7348-4698-9CA8-4DD8598E1E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7E3C-04AB-4A36-8938-9A7E1A9CAF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04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04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5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5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5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6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6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6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6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7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7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7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8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8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8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9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9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9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9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9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CBDA-5F2E-4591-B467-F1F70C23AE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67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9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69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69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69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9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69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0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70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70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70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71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71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1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2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72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2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72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3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73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3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452520"/>
            <a:ext cx="791532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–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тический анализ некоторых (или всех) составных частей системы качеств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6" name="Picture 34" descr="spy_guy"/>
          <p:cNvPicPr/>
          <p:nvPr/>
        </p:nvPicPr>
        <p:blipFill>
          <a:blip r:embed="rId1"/>
          <a:stretch/>
        </p:blipFill>
        <p:spPr>
          <a:xfrm>
            <a:off x="1752480" y="39625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73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55AE-4C61-446F-8524-603E215C21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9" name="Picture 1" descr=""/>
          <p:cNvPicPr/>
          <p:nvPr/>
        </p:nvPicPr>
        <p:blipFill>
          <a:blip r:embed="rId2"/>
          <a:stretch/>
        </p:blipFill>
        <p:spPr>
          <a:xfrm>
            <a:off x="4114800" y="3535200"/>
            <a:ext cx="308448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ubOvalCallout"/>
          <p:cNvSpPr/>
          <p:nvPr/>
        </p:nvSpPr>
        <p:spPr>
          <a:xfrm>
            <a:off x="457200" y="1523880"/>
            <a:ext cx="6172200" cy="4953240"/>
          </a:xfrm>
          <a:custGeom>
            <a:avLst/>
            <a:gdLst>
              <a:gd name="textAreaLeft" fmla="*/ 903600 w 6172200"/>
              <a:gd name="textAreaRight" fmla="*/ 5268600 w 6172200"/>
              <a:gd name="textAreaTop" fmla="*/ 544320 h 4953240"/>
              <a:gd name="textAreaBottom" fmla="*/ 3173040 h 495324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2321" y="216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ценка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464796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Спрашивают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3" name="Picture 5" descr="j0234625"/>
          <p:cNvPicPr/>
          <p:nvPr/>
        </p:nvPicPr>
        <p:blipFill>
          <a:blip r:embed="rId1"/>
          <a:stretch/>
        </p:blipFill>
        <p:spPr>
          <a:xfrm>
            <a:off x="6516720" y="2438280"/>
            <a:ext cx="2322360" cy="259092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6"/>
          <p:cNvSpPr/>
          <p:nvPr/>
        </p:nvSpPr>
        <p:spPr>
          <a:xfrm>
            <a:off x="1219320" y="2600280"/>
            <a:ext cx="54864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Что делается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Соответствует ли это задокументированным правилам и процедурам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8E9E-F77D-400F-90DC-F2259C0616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52524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чего проводят оценку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592280"/>
            <a:ext cx="8001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ь, «где мы находимся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отношении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ь расхожд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ить информацию д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ния и внед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го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D691-DB49-4838-80A8-FC7B56C505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1" name="Picture 4" descr="MCBD19903_0000[1]"/>
          <p:cNvPicPr/>
          <p:nvPr/>
        </p:nvPicPr>
        <p:blipFill>
          <a:blip r:embed="rId1"/>
          <a:stretch/>
        </p:blipFill>
        <p:spPr>
          <a:xfrm>
            <a:off x="7086600" y="2873520"/>
            <a:ext cx="190512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4"/>
          <p:cNvGrpSpPr/>
          <p:nvPr/>
        </p:nvGrpSpPr>
        <p:grpSpPr>
          <a:xfrm>
            <a:off x="685800" y="1219320"/>
            <a:ext cx="4495680" cy="4876560"/>
            <a:chOff x="685800" y="1219320"/>
            <a:chExt cx="4495680" cy="4876560"/>
          </a:xfrm>
        </p:grpSpPr>
        <p:pic>
          <p:nvPicPr>
            <p:cNvPr id="753" name="Picture 5" descr="lab_design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449568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12"/>
            <p:cNvSpPr/>
            <p:nvPr/>
          </p:nvSpPr>
          <p:spPr>
            <a:xfrm>
              <a:off x="3803400" y="2560680"/>
              <a:ext cx="1152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TextBox 17"/>
            <p:cNvSpPr/>
            <p:nvPr/>
          </p:nvSpPr>
          <p:spPr>
            <a:xfrm>
              <a:off x="1357200" y="5286240"/>
              <a:ext cx="63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иохим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ер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TextBox 18"/>
            <p:cNvSpPr/>
            <p:nvPr/>
          </p:nvSpPr>
          <p:spPr>
            <a:xfrm>
              <a:off x="2688480" y="5384880"/>
              <a:ext cx="10098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ожидан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TextBox 19"/>
            <p:cNvSpPr/>
            <p:nvPr/>
          </p:nvSpPr>
          <p:spPr>
            <a:xfrm>
              <a:off x="2483280" y="4621320"/>
              <a:ext cx="76428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регистратур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TextBox 20"/>
            <p:cNvSpPr/>
            <p:nvPr/>
          </p:nvSpPr>
          <p:spPr>
            <a:xfrm>
              <a:off x="2192760" y="3795840"/>
              <a:ext cx="7293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гема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TextBox 21"/>
            <p:cNvSpPr/>
            <p:nvPr/>
          </p:nvSpPr>
          <p:spPr>
            <a:xfrm>
              <a:off x="4411440" y="5478480"/>
              <a:ext cx="46404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туалет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TextBox 22"/>
            <p:cNvSpPr/>
            <p:nvPr/>
          </p:nvSpPr>
          <p:spPr>
            <a:xfrm>
              <a:off x="4383000" y="4538520"/>
              <a:ext cx="572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проб крови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TextBox 23"/>
            <p:cNvSpPr/>
            <p:nvPr/>
          </p:nvSpPr>
          <p:spPr>
            <a:xfrm>
              <a:off x="3871800" y="3838680"/>
              <a:ext cx="922320" cy="41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гинекологических проб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TextBox 24"/>
            <p:cNvSpPr/>
            <p:nvPr/>
          </p:nvSpPr>
          <p:spPr>
            <a:xfrm>
              <a:off x="4084560" y="284328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пасы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TextBox 25"/>
            <p:cNvSpPr/>
            <p:nvPr/>
          </p:nvSpPr>
          <p:spPr>
            <a:xfrm>
              <a:off x="4084560" y="179712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офис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TextBox 26"/>
            <p:cNvSpPr/>
            <p:nvPr/>
          </p:nvSpPr>
          <p:spPr>
            <a:xfrm>
              <a:off x="3002040" y="1612800"/>
              <a:ext cx="598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ванная комнат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TextBox 27"/>
            <p:cNvSpPr/>
            <p:nvPr/>
          </p:nvSpPr>
          <p:spPr>
            <a:xfrm>
              <a:off x="825480" y="4079880"/>
              <a:ext cx="837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актери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парази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TextBox 28"/>
            <p:cNvSpPr/>
            <p:nvPr/>
          </p:nvSpPr>
          <p:spPr>
            <a:xfrm>
              <a:off x="1735200" y="2843280"/>
              <a:ext cx="453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ойк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TextBox 29"/>
            <p:cNvSpPr/>
            <p:nvPr/>
          </p:nvSpPr>
          <p:spPr>
            <a:xfrm>
              <a:off x="2582640" y="2873520"/>
              <a:ext cx="6062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приготовление сред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TextBox 30"/>
            <p:cNvSpPr/>
            <p:nvPr/>
          </p:nvSpPr>
          <p:spPr>
            <a:xfrm>
              <a:off x="884160" y="2843280"/>
              <a:ext cx="54756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терилизац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TextBox 31"/>
            <p:cNvSpPr/>
            <p:nvPr/>
          </p:nvSpPr>
          <p:spPr>
            <a:xfrm>
              <a:off x="1060200" y="1712880"/>
              <a:ext cx="5745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ночного дежурного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TextBox 32"/>
            <p:cNvSpPr/>
            <p:nvPr/>
          </p:nvSpPr>
          <p:spPr>
            <a:xfrm>
              <a:off x="1960560" y="1725480"/>
              <a:ext cx="487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персонал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TextBox 33"/>
            <p:cNvSpPr/>
            <p:nvPr/>
          </p:nvSpPr>
          <p:spPr>
            <a:xfrm rot="5400000">
              <a:off x="3197880" y="3565800"/>
              <a:ext cx="552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ридор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2" name="Rectangle 3"/>
          <p:cNvSpPr/>
          <p:nvPr/>
        </p:nvSpPr>
        <p:spPr>
          <a:xfrm>
            <a:off x="5867280" y="2133720"/>
            <a:ext cx="2971800" cy="380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5867280" y="2514600"/>
            <a:ext cx="2971800" cy="28195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нешняя группа или ведом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5867280" y="838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неш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13"/>
          <p:cNvSpPr/>
          <p:nvPr/>
        </p:nvSpPr>
        <p:spPr>
          <a:xfrm>
            <a:off x="1523880" y="1600200"/>
            <a:ext cx="2743200" cy="990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Внутренний ауд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Line 14"/>
          <p:cNvSpPr/>
          <p:nvPr/>
        </p:nvSpPr>
        <p:spPr>
          <a:xfrm flipH="1">
            <a:off x="4419360" y="38098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4343400" y="228600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Line 16"/>
          <p:cNvSpPr/>
          <p:nvPr/>
        </p:nvSpPr>
        <p:spPr>
          <a:xfrm flipH="1" flipV="1">
            <a:off x="4343400" y="5257800"/>
            <a:ext cx="1447920" cy="5335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7"/>
          <p:cNvSpPr/>
          <p:nvPr/>
        </p:nvSpPr>
        <p:spPr>
          <a:xfrm>
            <a:off x="685800" y="914400"/>
            <a:ext cx="4495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AutoShape 19"/>
          <p:cNvSpPr/>
          <p:nvPr/>
        </p:nvSpPr>
        <p:spPr>
          <a:xfrm rot="5400000">
            <a:off x="1066680" y="312408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AutoShape 20"/>
          <p:cNvSpPr/>
          <p:nvPr/>
        </p:nvSpPr>
        <p:spPr>
          <a:xfrm rot="13572000">
            <a:off x="2895480" y="472392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C420-2F88-4A2B-82E6-C763BA6574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Footer Placeholder 1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AB94-C739-4F5C-A795-5FDC21D155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6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787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р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2:33:11Z</dcterms:modified>
  <cp:revision>187</cp:revision>
  <dc:subject/>
  <dc:title>Slide 1</dc:title>
</cp:coreProperties>
</file>